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319-72DD-440A-B4B1-44E1F60F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A8B-EBD6-4C95-A522-8EF6583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994-D730-45C9-A98A-3AAC6542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180-FA36-4621-86D2-B61BEA8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554-5965-4450-A877-4B0278BB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6CA-AEFE-4F64-A126-0A686AD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6EE-D958-440D-876C-424BA0F4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25B-9476-438D-9BF0-91D8375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000-1B3B-449E-B1F4-FB70E9CF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B6B-A4C8-4DC1-B9EE-D971BED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E9F-1AC3-4C79-B6DB-9C3DAAB8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5BD-E549-4E0C-A2B5-A1031545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7B7-D0FB-4619-AA9B-35704C43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5943600"/>
            <a:ext cx="6400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is she thinking?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9:06:12Z</dcterms:created>
  <dc:creator>Aberdeen Public Schools</dc:creator>
  <dc:description/>
  <dc:language>en-US</dc:language>
  <cp:lastModifiedBy>Aberdeen Public Schools</cp:lastModifiedBy>
  <dcterms:modified xsi:type="dcterms:W3CDTF">2010-05-24T19:10:46Z</dcterms:modified>
  <cp:revision>2</cp:revision>
  <dc:subject/>
  <dc:title>Slide 1</dc:title>
</cp:coreProperties>
</file>